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4CD-82FF-496F-A746-4DB8AD63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31FA-ED61-4121-AE1E-0640D81C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EEAA-E494-4F06-8B1C-1DA95BBA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045-F730-493E-9775-99B7A28B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32E-365E-42C8-84F2-843A61E1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1FC7-F16B-4046-9CCF-7A4399E1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AD3-9337-4E99-99FE-655E128A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2DAB-8C1D-4FF6-A86A-77DF1FFC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671-990A-438A-9318-0A4D7171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0B75-F6A8-4BF5-AB1C-F9886DCC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F70-B642-4D33-A2E9-8AFBBF0C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BEB-7A67-4ED2-822F-566EE420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48BF-53FF-4D3E-907F-06FA1A305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wift3.he.net/~swift3/friends.wmv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livingroomcandidate.movingimage.us/index.php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90920" y="2286000"/>
            <a:ext cx="38098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9 New Republican Majority F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2003-2004 election cycle they spent $4,692,69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created by Mississippi Senator, and former Majority Leader, Trent Lo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ives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rvative Republi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didates only.  It is the larges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39120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0 American Medical Asso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19720" y="1218960"/>
            <a:ext cx="4419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Bush/Kerry election they spent $4,496,1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an organization made up of doctors and medical professio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one of man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 the interest of a particular prof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ives to both parties, but mostl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ubl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343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0 National Automobile Dealers Association (NAD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Bush/Kerry election, they gave $3,576,53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present car dea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give money to both parties, but slightly more to Republ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0" r="23450" b="0"/>
          <a:stretch/>
        </p:blipFill>
        <p:spPr>
          <a:xfrm>
            <a:off x="4038480" y="2219400"/>
            <a:ext cx="487692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3 United Parcel Service (U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Bush/Kerry election they donated $3,317,74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S is an example of a  PAC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s only on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upport both parties, in order to promote their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0001" t="2998" r="10001" b="11812"/>
          <a:stretch/>
        </p:blipFill>
        <p:spPr>
          <a:xfrm>
            <a:off x="380880" y="2432160"/>
            <a:ext cx="426744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paign Finance Re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42670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old laws, and PACs  and individuals were limited to how much they could give a candidate.  They got around this by giving unlimit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ft mone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olitical parties, rather than the candidate direct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2, Senators John McCain (AZ) and Russ Feingold (WI) got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ss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mpt to cont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influence created by all th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ey in poli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became known as the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cCain-Feingold 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most recent attempt a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paign finance re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0" r="0" b="21334"/>
          <a:stretch/>
        </p:blipFill>
        <p:spPr>
          <a:xfrm>
            <a:off x="4572000" y="1981080"/>
            <a:ext cx="441972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Cain - Feing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1"/>
          </p:cNvPr>
          <p:cNvPicPr/>
          <p:nvPr/>
        </p:nvPicPr>
        <p:blipFill>
          <a:blip r:embed="rId2"/>
          <a:srcRect l="5176" t="0" r="10351" b="0"/>
          <a:stretch/>
        </p:blipFill>
        <p:spPr>
          <a:xfrm>
            <a:off x="380880" y="1219320"/>
            <a:ext cx="3870360" cy="2825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495320" y="99072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w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mits the amount of money you can give to a candidate per elec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 Individuals can give only $5000, PACs only $1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totall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ns all soft mone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sed for campaign 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ampaign advertising must be followed by a statement of who paid for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loophole howe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527” group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aise unlimited money to run “issue ad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.  They are supposed to be only about educating voters on the issues, but have been used to attack candidates on both s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3520" y="4189320"/>
            <a:ext cx="35812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oes the money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costs a lot of money to put on a presidential campa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undreds of staff members must be pa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nt must be paid on headquarters in most major c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andidate and dozens of staff members and security must be flown around the country, usually in more than one state per d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s, banners, bumper stickers, etc. need to be prin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iggest expense by far though is… advertising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4076640" cy="1292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486400" y="3427560"/>
            <a:ext cx="2635200" cy="1307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952880" y="5257800"/>
            <a:ext cx="3962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Advertis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19360" y="114264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levision advertising is the biggest expense of Presidential campa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costs an average of $343,000 to produce a :30 TV commercial – and that’s before anyone sees it!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erican Association of Adverting Agencies 11/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run an ad during a popular show is expensive.  Here are costs to show a :30 ad – onc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n Idol (FOX) - $658,3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ivor (CBS) - $412,8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rentice (NBC) - $4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 Night Football (ESPN) - $32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ville (WB) - $111,7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rica’s Next Top Model (UPN) - $92,0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ccording to the Boston Globe 9/29/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1809720"/>
            <a:ext cx="426744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worth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they wouldn't spend millions on it if it didn’t have an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used for several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their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create their public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 their op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themselves against an opponent’s at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489560" y="1523880"/>
            <a:ext cx="41846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agan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29492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paigns use various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opagand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ethods, which are us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get people to believe or act a certain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propaganda is obvious, but much of it is hidden, disguised as statements of f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andwagon, Name-Calling, Card Stacking, Plain Folks Appeal, Glittering Generalities and Endorsements (Testimonials) are the most common propaganda metho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5276" t="3648" r="15276" b="7467"/>
          <a:stretch/>
        </p:blipFill>
        <p:spPr>
          <a:xfrm>
            <a:off x="395280" y="1600200"/>
            <a:ext cx="39909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 Ra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00600" y="1295280"/>
            <a:ext cx="4114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money does to take to run for Presid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0 Republicans spent $94.5 million and Democrats spent $53.7 million during the Presidential ele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ederal Election commission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$1 billion was spent to support both President Bush and John Kerry during the 2004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it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2260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dwag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dwag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paigns attempt to make it seem that voting for the candidate is the popular thing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mp on the bandwagon and vote for Candidate ___, everyone is doing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398124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e-C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me-Cal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andid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mpts to give negative labels to their op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ing them names like “Flip-flopper”, “Tax and Spender”, and “Friend of the powerfu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Senator Kerry Flip-Flop presented by BushCountry.org"/>
          <p:cNvPicPr/>
          <p:nvPr/>
        </p:nvPicPr>
        <p:blipFill>
          <a:blip r:embed="rId1"/>
          <a:stretch/>
        </p:blipFill>
        <p:spPr>
          <a:xfrm>
            <a:off x="152280" y="1447920"/>
            <a:ext cx="464832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d Sta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rd Stac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tell one side of the 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You don’t lie, but you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ve out importa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 candidate might mention that he cut taxes, but leave out that crime went up because police officers were cut out of the budget to pay for those tax 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51280" y="1447920"/>
            <a:ext cx="36356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in Folks App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5173" r="0" b="4361"/>
          <a:stretch/>
        </p:blipFill>
        <p:spPr>
          <a:xfrm>
            <a:off x="914400" y="1220760"/>
            <a:ext cx="2971800" cy="2938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2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in-Folks appe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didate tries to make himself seem like a regular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done to help the public relate to the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andidate might be a millionaire that never has held a real job, but they want to seem just like everyone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8567" t="0" r="11433" b="17009"/>
          <a:stretch/>
        </p:blipFill>
        <p:spPr>
          <a:xfrm>
            <a:off x="228600" y="4267080"/>
            <a:ext cx="2433600" cy="2438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0" t="3044" r="16167" b="19300"/>
          <a:stretch/>
        </p:blipFill>
        <p:spPr>
          <a:xfrm>
            <a:off x="2819520" y="4191120"/>
            <a:ext cx="2027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ittering Gener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littering Gener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 statement that sounds good, but doesn’t really mean any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tand for family valu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firs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is on the wa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represent a “New American Patriotis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9052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orsement (Testimonial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dors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or testimonial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elebrity speaks out for a candi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is to use the celebrity's popularity to get votes for the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re more likely to listen a message if they are interested in the person delivering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vingroomcandidate.movingimage.us/index.ph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28600" y="2000160"/>
            <a:ext cx="44197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ss me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e up of communications that reach many peo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ch as television, radio, internet, newspape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get most of their information on politics from mas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be influenced by many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re free to campaigns, such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s cover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911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Cart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cartoons often can affect peoples opinions about a cand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ppear in newspapers every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positive or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733920" y="190656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know if its work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aigns must know if what they are doing is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need to know what public opin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ublic opi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most people believe or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measure public opi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aigns change their commercials/strategy based on poll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00600" y="1935000"/>
            <a:ext cx="39625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 Don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724280" y="1294920"/>
            <a:ext cx="4114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individual donations go to both parties, but mostly to Republicans because of their support from the most wealthy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ey is often collected at “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drais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whe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ors pay high prices to get into dinner parties where the candidate will attend and sp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ggest donors get to speak to the candidate and get their picture taken with th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2185920"/>
            <a:ext cx="4419720" cy="34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-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62520" y="1447560"/>
            <a:ext cx="4876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ublicans usually rely more on individual donors, while Democrats often rely more on PACs.  Both parties use both sources how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litical Action Committees (PAC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s that raise money for candidates that agree with their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ver 4000 in the U.S.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raise millions of dollars for the candidates the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ould people or PACs want to give so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137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PA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ss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s a view on an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bor Un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s needs of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dustr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s needs of a type of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s needs of a specialized prof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rpo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s the needs of a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l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s a political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Total PAC and Individual Contributions in 1992 Congressional Campaigns"/>
          <p:cNvPicPr/>
          <p:nvPr/>
        </p:nvPicPr>
        <p:blipFill>
          <a:blip r:embed="rId1"/>
          <a:srcRect l="3498" t="0" r="3721" b="0"/>
          <a:stretch/>
        </p:blipFill>
        <p:spPr>
          <a:xfrm>
            <a:off x="4495680" y="2206800"/>
            <a:ext cx="4419720" cy="26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tional Rifle Association (N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2003-2004 election cycle they spent $16,821,43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ostly support Republ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upport candidates who are in favor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cting gun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good example of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s an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97600" y="1523880"/>
            <a:ext cx="3573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ily’s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2003-2004 election cycle they spent $14,746,24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ostly support Democra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most interested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's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 Democrat Republican Independent Voter Education P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2003-2004 election cycle they spent $9,000,56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pite its confusing name, this PAC gives mostly to Democra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the PAC of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amsters Un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represents truck drivers and other industrial work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supports issues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rganized lab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0" t="0" r="0" b="8360"/>
          <a:stretch/>
        </p:blipFill>
        <p:spPr>
          <a:xfrm>
            <a:off x="5105520" y="1676520"/>
            <a:ext cx="3324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6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 for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2003-2004 election cycle they spent $6,108,96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also a union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ing many public school teach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Yes, I am a memb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so tend to support Democratic 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1385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1T21:00:50Z</dcterms:created>
  <dc:creator>Osama Agami</dc:creator>
  <dc:description/>
  <dc:language>en-US</dc:language>
  <cp:lastModifiedBy>VBCPS</cp:lastModifiedBy>
  <dcterms:modified xsi:type="dcterms:W3CDTF">2006-04-04T12:26:36Z</dcterms:modified>
  <cp:revision>23</cp:revision>
  <dc:subject/>
  <dc:title>Campaigns</dc:title>
</cp:coreProperties>
</file>